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E04-6A0C-449B-99DA-FD5BC290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CB8-7A2E-4CD4-A785-E80E0094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796-9989-4FCB-8241-4B088CE8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81A-8AD2-495E-BBA6-E77B814C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ADA-3734-42F1-BFF7-29E6C00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273-1E7D-4861-8580-18A1419A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28D-2629-4CAF-900B-FCC3B851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050-7BF1-4D20-8F40-3805F29B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C90-03B6-4A91-BDA7-E1A299E1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971-5BC2-4E39-8BFD-353400D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781-6EE2-47E3-9A2A-85C43CE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BB7-D6DB-47B6-8F2C-D212EBB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7962-91E2-43E0-AA3C-0C6512B872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11-01T07:35:50Z</dcterms:modified>
  <cp:revision>810</cp:revision>
  <dc:subject/>
  <dc:title>Free PPT Backgrounds</dc:title>
</cp:coreProperties>
</file>